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26327-5F03-400A-9819-536AD23EE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E4412-7F36-4659-B9E4-2B7DD1748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5EB36-EE17-4DA7-94CF-CB4FFEE98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81A36-80B2-46CE-BEE0-5C4C79C10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EF70A-B177-495C-9F37-973271212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B8ACC-734B-4661-A144-CCC527588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7EAEA-C8DF-4305-ADC2-DE60FB04E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3FBCD-15FB-41AF-AED0-57FDB0715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3DBB7-D298-453E-9A2F-06324664E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6D67B-3844-4528-BB8E-EE02CF746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A19A8-C4A0-48C4-8C0F-3CDC39D71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1B6D8-5576-4A78-816E-1E20F58E7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29CC-61E4-44FD-876E-5F61E14198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7" name="Content Placeholder 5" descr="comp_i.jpg"/>
          <p:cNvPicPr/>
          <p:nvPr/>
        </p:nvPicPr>
        <p:blipFill>
          <a:blip r:embed="rId1"/>
          <a:stretch/>
        </p:blipFill>
        <p:spPr>
          <a:xfrm>
            <a:off x="5334120" y="1828800"/>
            <a:ext cx="252396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274680"/>
            <a:ext cx="74674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Guest</cp:lastModifiedBy>
  <dcterms:modified xsi:type="dcterms:W3CDTF">2012-06-15T12:33:20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